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D6A5-C015-4FEE-9F5E-321A2E26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A8A9-5D96-48E0-9DDB-C84C41B3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BC2-1D91-495C-8ED1-699B9650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5130-9B3B-446F-AC53-CB2F30EA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C6DC-216D-4B98-832E-781F2DB2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E1016-2C27-4BB9-8CB8-F594253E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6D3-8BB8-4333-9013-A4DFF197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8BCD-66CB-4717-932D-C1876054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C403-AF0E-4986-A80A-E6EF7E52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81D4-E9C8-47A8-A440-84CB8F27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1E86-248D-4A2A-807B-F61885CA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F5B6-D792-4E9B-97B0-3241AEBF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0809-E761-4E01-8642-8BBAAB97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117F-6BA0-40D8-BC7B-44150342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538A-30FD-4D3F-9083-181CDD7B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F5CE-2DF5-4A37-BC13-CE4473EC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BC6A4-0BDB-4BD2-83F1-4C7E8559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A83A5-BF44-4976-84AD-4E2A6800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EF7A4-61AD-4B3B-B3FD-C9294152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67F3-B027-4C34-8757-3AF14FD5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CCC48-6AE8-4D1D-97EC-F92F098B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AFC20-F333-46BE-996D-35F7766A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71E-0ADF-4721-A317-A970FFB1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2639-2E97-4648-B449-48B6D8F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FB28D-3B5C-4250-896B-E2ACACB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0FCEB-1524-4CA1-92FE-E367174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FACB-AFA3-49A3-9850-182AA3A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F0D6D-D732-4A92-B454-446D60A6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619D0-804F-4C9E-8E9B-090E89AAC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31733-A68B-4CCA-BEE1-F4647AEDD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F740F-DADB-4723-8B6B-EA5C367E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2A2EF-E715-4B74-8B99-ED5CDEDB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FA6C-834B-45E1-A361-E0868B64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C12-E7F2-407D-93BE-D4492EA9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DA322-30CC-4DAD-812C-8D274BC1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A0C3-3786-4FE9-A07E-7CCD20DE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4442A-4B66-4300-89AC-6A17401D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B18F-2FB0-4650-A2EC-76B1C8EE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3A51E-5657-46C3-B430-F4C30F76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D3319-44FB-4F87-90EB-B2649AD6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078DF-58B5-4335-B1E8-0BD0083B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09269-66AA-4127-A102-592A5E9A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35B3C-2E4D-40B4-A17F-D85B2AB91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8C0-780D-4389-AE6F-ADC0360F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D01-279D-4845-8184-2BF418706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C5B-65E9-4E0E-B27D-660586D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1DFD-72B7-4B51-AC13-05DA37E6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C9D-F5F5-4CF0-BBBE-00E6AF2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70CB-81AB-4BA6-A52B-F05BE9E6D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3FD7-B6D0-4879-9966-3171DAD91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DE42-8B24-4DA0-A864-33FF1616E69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3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3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3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4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6F4E-A9EB-4921-A359-C3D3F81EA0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0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0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FIGURI</a:t>
            </a:r>
            <a:r>
              <a:rPr b="1" lang="en-US" sz="5400" spc="-1" strike="noStrike">
                <a:solidFill>
                  <a:srgbClr val="ff0066"/>
                </a:solidFill>
                <a:latin typeface="Arial Black"/>
              </a:rPr>
              <a:t> </a:t>
            </a:r>
            <a:r>
              <a:rPr b="0" lang="en-US" sz="5400" spc="-1" strike="noStrike">
                <a:solidFill>
                  <a:srgbClr val="ff0066"/>
                </a:solidFill>
                <a:latin typeface="Arial Black"/>
              </a:rPr>
              <a:t>DE STIL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90720" y="3962160"/>
            <a:ext cx="6781680" cy="2438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ZENTARE GENERAL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Prof. Irina Gâng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38080" y="349560"/>
            <a:ext cx="6705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NTITEZ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prezentarea în opoziţie a unor caracteristici, personaje, idei, cu scopul de a evidenţia o categorie dintre 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oi,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pierduţi în gânduri sânte, convorbeaţi cu idealu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o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cârpim cerul cu stele, noi mânjim marea cu valuri...” -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503880"/>
            <a:ext cx="617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IMPRECAŢI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= se formulează dorinţa de a-l vadea pe adversar pedepsit pentru defectele sale sau pentru comportamentul blamab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h, Dumnezeu, nedrept stăpâ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M-a duşmănittrăind mere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-a pizmuit norocul meu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 un păgân şi Dumneze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 un păgân” - Coşbu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609480" y="168480"/>
            <a:ext cx="60199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HIPERBOL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exagerarea voită a trăsăturilor şi staturii unui personaj, a dimensiunilor unui obiect cu scopul de a reliefa importanţa sa, măreţ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Sălbaticul Vodă e-n zale şi 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zalele-i zurui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ru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igantic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poart-o cupolă pe fru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vorba-i 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unet,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răsufletul -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ard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din stânga-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junge la 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odă-i un munt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! ” - Coşbu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3916800"/>
            <a:ext cx="701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ITOT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•  o formă a disimulării prin intermediul căreia se lasă a se înţelege mai mult decât se spu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ând vezi piatra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ce nu simte nici durerea şi nici m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De ai inimă şi minte – feri în laturi, e Dalila! ” –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nversul hiperbolei, minimalizare voit exagerat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„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Atâta străluci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nc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În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ietul bordeiaş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de paie...” – Go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D. Figuri de semnificaţ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80880" y="905040"/>
            <a:ext cx="84582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EPITETUL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= constă în reliefarea unor însuşiri deosebite ale obiectelor, fiinţelor, ideilor, fenomenelor şi stărilor sufleteşti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o-RO" sz="1600" spc="-1" strike="noStrike" u="sng">
                <a:solidFill>
                  <a:srgbClr val="ffffff"/>
                </a:solidFill>
                <a:uFillTx/>
                <a:latin typeface="Arial"/>
              </a:rPr>
              <a:t>Clasific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:   a) ornant/ general:  „ Ochii tă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mar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caută-n frunza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cea rar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b) individual :”Frumos odor e Fulga! Ş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nalt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-i e făptura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c) cromatic : „ Mii de fluturi mic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albaştr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  „ Curg în râur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sclipito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d) personificator: „Ele [izvoarele] trec cu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harnici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unde şi suspină-n flor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molatic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e) comparativ : „El are glas puternic ... /Şi mers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cu legănare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de gingaşă fecioară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f) metaforic: „ Ş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părul său de aur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în creţuri lungi se lasă / Ca pe strujanul verde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un caier de mătas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 „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g) hiperbolic: „ Şi zalele-i zuruie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crunte, / Gigantic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poart-o cupolă pe frunte…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h) aliterativ :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„ Într-o sălbatică splendoar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i ) onomatopeic : „ Ecou-i răspunde cu vocea-i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vuindă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j) pleonastic : „ Peste care trece-n zgomot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o mulţime de norod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k) sinestezic: „Primăvară…/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O pictură parfumată cu vibrări de violet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l) aspaţial şi atemporal : „ Plutea-n acest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imens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senin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m) oximoronic : „ Venere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, marmură caldă, ochi de piatră ce scântei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n) tautulogic : 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tăpşanul prăvălatic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”  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„ făclii prealuminate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o) inversat : „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Bătrânul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mag înalţă fruntea, / Ce </a:t>
            </a:r>
            <a:r>
              <a:rPr b="1" i="1" lang="ro-RO" sz="1600" spc="-1" strike="noStrike">
                <a:solidFill>
                  <a:srgbClr val="ffffff"/>
                </a:solidFill>
                <a:latin typeface="Arial"/>
              </a:rPr>
              <a:t>sfânt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 e graiul gurii sale.”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o-RO" sz="1600" spc="-1" strike="noStrike" u="sng">
                <a:solidFill>
                  <a:srgbClr val="ffffff"/>
                </a:solidFill>
                <a:uFillTx/>
                <a:latin typeface="Arial"/>
              </a:rPr>
              <a:t>Structură</a:t>
            </a:r>
            <a:r>
              <a:rPr b="1" lang="ro-RO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1600" spc="-1" strike="noStrike">
                <a:solidFill>
                  <a:srgbClr val="ffffff"/>
                </a:solidFill>
                <a:latin typeface="Arial"/>
              </a:rPr>
              <a:t>:  - simple;  duble; triple; pletoră ( mai mult de trei determinări); reluat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72960" y="1202400"/>
            <a:ext cx="847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NECDOC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îmlocuirea unui nume prin altul pe baza relaţiei cantit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 cerul plin de ste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câmpul încă plin d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oz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.” - Macedonsk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8240" y="2436840"/>
            <a:ext cx="79948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ETONIMI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numele unui obiect este înlocuit cu un altul prin corespondenţă direct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cauzei / a efectului: „ Voiam să-mi sparg veninul, să uit cele trecute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–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I.H.Rădul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instrumentului „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uri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voiau să-i smulgă de pe fruntea ta de fier”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posesorului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întregului prin parte: 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raţu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lui prin taberi mii de morţi împarte”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Bolintine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 conţinătorului prin conţinut: „ Fiarbă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in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n cupe,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pume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4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ocalu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!  ” -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80880" y="273240"/>
            <a:ext cx="79250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NESTEZI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varietate metaforică constând într-un complex de senzaţii transpuse prin îmbinare de imagini vizuale, auditive, tactile, olfactive, gustati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rimăvara... o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ictură parfumată cu vibrări de violet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!” – Bacov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„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ântecul tău a umplut clădirea toată [...] ca o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lavandă sonor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- 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81080" y="3283560"/>
            <a:ext cx="6324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SIMBOLUL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semn concret ce reprezintă un alt obiect, o persoană,o situaţi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ontologic / de natură:  crucea pentru Creştin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nalogic / de formă: porumbeii pentru iubire/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onvenţional / de înţelegere: drapelele sate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371600" y="2681280"/>
            <a:ext cx="670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800" spc="-1" strike="noStrike">
                <a:solidFill>
                  <a:srgbClr val="cc0000"/>
                </a:solidFill>
                <a:latin typeface="Arial"/>
              </a:rPr>
              <a:t>E. Figuri de analogi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577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85800" y="548280"/>
            <a:ext cx="624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PERSONIFICAREA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= atribuirea unor însuşiri umane unor obiecte, lucruri, abstracţiu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rintre grati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luna moale, sfiicioasă şi smerit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/ şi-au vărsat razele ei” – 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34452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OMPARAŢI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punerea în paralel a doi termeni pentru a evidenţia caracteristicile unu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În pâlnia muntelu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ezerul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netulbura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a un ochi al lumii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, s-a deschis”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Bl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1185840"/>
            <a:ext cx="79246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METAFOR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transfer de sens între între obiecte ( presupune o comparaţie neexprimată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Realizare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: - in presentia/explicită: 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oapte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i o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regin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lunatec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şi brună” - Eminesc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- in absentia/implicită: „ Nevinovatul, noul ou –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palat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untă şi cavou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- Barb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 u="sng">
                <a:solidFill>
                  <a:srgbClr val="ffffff"/>
                </a:solidFill>
                <a:uFillTx/>
                <a:latin typeface="Arial"/>
              </a:rPr>
              <a:t>Tipur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concret-concret: „Spune, tu,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Noapte, martor de  smarald”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bstract-concret: „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Tăcerea gândului şi-a orei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– 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concret- abstract: „ Şi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gândirea-i arătur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Peste care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boi de zgură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plutesc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abstract-abstract: „ Din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vecinicia 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ta nu sunt măcar 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</a:rPr>
              <a:t>un ceas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” - Arghez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83851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F. Figuri sintactico-semanti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0066"/>
                </a:solidFill>
                <a:latin typeface="Castellar"/>
              </a:rPr>
              <a:t>FIGURI DE STIL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sunet / de repetiţ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construcţ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gând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semnificaţ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ana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 sintactico-semanti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Arial"/>
              </a:rPr>
              <a:t>Figuri de insistenţă / de adres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0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371600" y="268920"/>
            <a:ext cx="5943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XIMORONUL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= asociere paradoxală a doi termeni contradictor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Suferinţă, tu,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ureros de dulc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...”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ulorile le iau din ap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Din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ulci otrăvuri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şi din vânt..” – Bla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DIAFOR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utilizarea succesivă a unui cuvânt cu înţelesuri diferite în acelaşi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Pâinea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ierul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o rodeşte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Tot cu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fierul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o păstrăm” – Bolli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G. Figuri de insistenţă / </a:t>
            </a:r>
            <a:br>
              <a:rPr sz="4400"/>
            </a:b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          de adresa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0880" y="518400"/>
            <a:ext cx="762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TEROGAŢIA RETORIC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formularea une întrebări la care poetul nu aşteaptă un răspuns, întrebarea având valoare emfatic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e slujesc, dar, Doamne, până când?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” - Argh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3550320"/>
            <a:ext cx="723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INVOCAŢIA POETICĂ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interpelare adresată unei muze, divinităţii etc. cu scopul de a formula o rugăminte, o cerere, un îndem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Tare sunt singur, Doamne, şi pieziş!” –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rghe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Cum nu vii tu, Ţepeş Doamne...!?”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- 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A.     </a:t>
            </a: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Figuri de </a:t>
            </a: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sunet/ de repetiţ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ANAFORA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= repetarea unui cuvânt / sintagme la începutul unei fraze / al unui 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viforul se scoală,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cerul se mân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negura se-ntinde,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norii se-mpletesc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Comic Sans MS"/>
              </a:rPr>
              <a:t>Când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 focul sărpuieşte d-a lungul în tări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Cu fulgerul, atuncea cu groază te privesc.”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o-RO" sz="2400" spc="-1" strike="noStrike">
                <a:solidFill>
                  <a:srgbClr val="000000"/>
                </a:solidFill>
                <a:latin typeface="Comic Sans MS"/>
              </a:rPr>
              <a:t>Alexandresc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>
            <a:off x="530280" y="4496040"/>
            <a:ext cx="828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PIFORA</a:t>
            </a:r>
            <a:r>
              <a:rPr b="0" lang="ro-RO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repetarea unui cuvânt / sintagme la sfârşitu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unei fraze  /al  unui 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227880"/>
            <a:ext cx="840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SONANŢA =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repetarea unei vocale accentuate într-o secvenţă verbal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 „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Când torsul s-aude l-al vrăjilor ca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rgint e pe ape şi aur în aer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120" y="2833560"/>
            <a:ext cx="908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ALITERAŢIA = repetarea unor consoa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                 „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Vâjâind ca vijelia şi ca plesnetul de ploaie... „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472212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ONOMATOPEEA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 = imitarea de sunete şi zgomote din natură cu scopul creeării de imagini auditive dinamic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„ 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A popoarelor de muşte </a:t>
            </a:r>
            <a:r>
              <a:rPr b="1" lang="ro-RO" sz="2400" spc="-1" strike="noStrike">
                <a:solidFill>
                  <a:srgbClr val="ffffff"/>
                </a:solidFill>
                <a:latin typeface="Arial"/>
              </a:rPr>
              <a:t>sărbători murmuitoare</a:t>
            </a:r>
            <a:r>
              <a:rPr b="0" lang="ro-RO" sz="2400" spc="-1" strike="noStrike">
                <a:solidFill>
                  <a:srgbClr val="ffffff"/>
                </a:solidFill>
                <a:latin typeface="Arial"/>
              </a:rPr>
              <a:t>”             Emines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58880" y="2286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B. Figuri de construcţi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12480" y="2285640"/>
            <a:ext cx="839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INVERSIUN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= schimbarea ordinii obişnuite a cuvintelor într-un vers / propoziţ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A ierbii / Molatece lanuri le treieră cerbii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34720" y="396360"/>
            <a:ext cx="702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TAUTOLOGIA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= repetarea prin derivare din aceeaşi familie lexical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Ce e val ca valul trece...”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Vom visa un vis ferice...” - Emines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51040" y="4282920"/>
            <a:ext cx="570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NUMERAŢI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= înşiruirea unor termeni de acelaşi f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entru a amplifica ideea exprimat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ram aşa de obos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primăver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trandafi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tinereţe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şi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de râs”-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Bl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4280" y="2833560"/>
            <a:ext cx="905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PARALELISM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L= alăturarea a două aspecte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idei / sentimente cu efect de intensifi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lelism sinonimic: ideea e redată de cuv din aceeaşi sferă semantic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lelism antitetic: imagini contras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paralelism sintetic: dispunerea ideilor în ritm simetr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259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EPIZEUXISU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L = reluarea imediată a unui cuvânt în vers / frază cu efectul de intensific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              „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Flori de tei deasupra noastr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Or să cadă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rânduri-rânduri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” - Emines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49525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HIPERBAT( DISLOCAREA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) = procedeu retoric constând în introducerea în topica obişnuită a unui cuvânt/ sintagme în topică invers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 „ 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Eşti ca vioara, 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singură</a:t>
            </a:r>
            <a:r>
              <a:rPr b="0" lang="ro-RO" sz="1800" spc="-1" strike="noStrike">
                <a:solidFill>
                  <a:srgbClr val="ffffff"/>
                </a:solidFill>
                <a:latin typeface="Arial"/>
              </a:rPr>
              <a:t>, ce cântă...” - Arghez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52480" y="2438280"/>
            <a:ext cx="70106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cc0000"/>
                </a:solidFill>
                <a:latin typeface="Arial Black"/>
              </a:rPr>
              <a:t>C. Figuri de gândi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. remus</cp:lastModifiedBy>
  <dcterms:modified xsi:type="dcterms:W3CDTF">2007-02-25T17:58:05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